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9dd1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BF69-CCEC-4FEE-A9A5-09DFAF62175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325-FCC1-4926-B67A-EC2EC1B3857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DD9-60FD-4DA3-8EB2-FA5D144E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145-CAD5-40BC-AE3F-013B427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156-2EC0-4C01-923A-0C730F2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DB3-C463-433F-9A0D-94D4C762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EBC-B3EB-419A-ABA3-84731F3B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D98D-0027-4670-95E9-2FBE154E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AB9-23BF-4D1D-9018-313F23A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AAA-E8FF-4DDC-AC3A-CEB6C57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FBC-645D-4F13-BB5D-25C8C37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D42-813C-455A-ADC8-383DC9F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680-3E86-46B8-A092-CA68397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492-C861-46B8-BBDE-607D3AA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D7D-40F1-474F-B242-5FC9E2C7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433-50D6-4972-B6E0-F301E1B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BD0-AE46-4E19-B91A-8107F75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30B9-C97B-4ED1-A56C-6070B14E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8A89-D66D-44F3-9D2F-F9AC92CF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DCFAB-56A3-4C55-A161-7D077CA7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885B3-D514-4E09-B92A-172C400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B181D-1BAC-495C-859C-C4AEEC0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79045-AE16-48AD-A7E9-630DF08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1E2AD-05B8-417D-8CDE-C0DD0800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877-8B00-4E91-912D-99CB02E5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0FED6-A65B-46CE-AE5B-61DBCB55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D09D9-FEF0-4FB0-8E9B-56EF7F5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742A8-F8EE-4F7A-A7DF-02452C5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39614-1B11-45A2-93AC-88AC7D9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AD4C6-75CC-41C2-8375-3FDC4D39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DAE32-27C0-4223-B201-F35A9EBE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0294B-8866-4F0E-9C93-3ED4B7CD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B2127-F726-42AB-B4C9-8890EC14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D83F-62E0-4D28-9EA1-6A516AEB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E0D8-A8F3-4135-AD19-71CDF9E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EC5-8CDF-4004-B74C-15126D1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8C44-5482-48DF-B660-0B8A303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09FB-AB64-4E6A-86B5-9B8C565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8583-6E8A-407A-AD23-D243D9E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91FF-35B7-4EFF-BC11-E95BF51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E94C-E8E9-4F39-8D65-6C1060E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2395-09EA-4728-BB5B-4209FF1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296F-EB16-451A-B68A-42CFA23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77C44-59C2-4061-9733-DE36BF40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1EFA-2D37-4ADA-931A-B752316B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80C-6530-456C-B3DB-8AE33D2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A2C-75CE-4EBC-B934-F600FB15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E54-6C61-4B52-A901-23C2128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D9B-FF48-4085-8AB8-46CC21E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DD6-CB4E-4BE0-B33F-EB3EB19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bf6"/>
            </a:gs>
            <a:gs pos="100000">
              <a:srgbClr val="4f74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9dd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614-4D00-4EBF-8C07-81E84CD0B407}" type="slidenum"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bf6"/>
            </a:gs>
            <a:gs pos="100000">
              <a:srgbClr val="4f74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9dd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629dd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0C6-600B-4FE3-A3A0-5F7E56FC7B6E}" type="slidenum">
              <a:rPr b="0" lang="en-IE" sz="1200" spc="-1" strike="noStrike">
                <a:solidFill>
                  <a:srgbClr val="629dd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bf6"/>
            </a:gs>
            <a:gs pos="100000">
              <a:srgbClr val="4f74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9dd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1B33-5699-4555-8050-4827AADAAC73}" type="slidenum"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bf6"/>
            </a:gs>
            <a:gs pos="100000">
              <a:srgbClr val="4f74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297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21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9dd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048-ABD2-4C37-975D-6491C3EBA15D}" type="slidenum">
              <a:rPr b="0" lang="en-IE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4000" y="2708280"/>
            <a:ext cx="329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6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2707920"/>
            <a:ext cx="33098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800" spc="-1" strike="noStrike">
              <a:solidFill>
                <a:srgbClr val="424242"/>
              </a:solidFill>
              <a:latin typeface="Century Gothic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539640" y="907920"/>
            <a:ext cx="3168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entury Gothic"/>
              </a:rPr>
              <a:t>Ardscoil Rís Senior Options Information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895560" cy="44085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5148360" y="620640"/>
            <a:ext cx="24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entury Gothic"/>
              </a:rPr>
              <a:t>27th February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Business and Science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73080" y="2560680"/>
            <a:ext cx="354024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Business Studi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Accounting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Busines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Econom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35360" y="2560680"/>
            <a:ext cx="3538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Scienc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Biolog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Chemistr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Phys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Construction and DCG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3080" y="2560680"/>
            <a:ext cx="354024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Woodwork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Construction Studi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35360" y="2560680"/>
            <a:ext cx="3538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Technical Graph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Design and Communication Graphics (DC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Humanities and Foreign Language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73080" y="2560680"/>
            <a:ext cx="354024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Humaniti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Ar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Geograph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35360" y="2560680"/>
            <a:ext cx="3538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Foreign Languag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Spanish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Subject Options – 3</a:t>
            </a:r>
            <a:r>
              <a:rPr b="0" lang="en-IE" sz="4000" spc="-1" strike="noStrike" baseline="30000">
                <a:solidFill>
                  <a:srgbClr val="629dd1"/>
                </a:solidFill>
                <a:latin typeface="Century Gothic"/>
              </a:rPr>
              <a:t>rd</a:t>
            </a: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 Level Requirement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73080" y="2560680"/>
            <a:ext cx="354024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242852"/>
                </a:solidFill>
                <a:latin typeface="Century Gothic"/>
              </a:rPr>
              <a:t>HL Irish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242852"/>
                </a:solidFill>
                <a:latin typeface="Century Gothic"/>
              </a:rPr>
              <a:t>Some level 8 degrees have Irish as a core entry requirement, e.g. Irish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242852"/>
                </a:solidFill>
                <a:latin typeface="Century Gothic"/>
              </a:rPr>
              <a:t>The main consequence of dropping higher level Irish: precluded from studying to be a primary school teacher in any of the Irish training colleges</a:t>
            </a: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35360" y="2560680"/>
            <a:ext cx="3538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242852"/>
                </a:solidFill>
                <a:latin typeface="Century Gothic"/>
              </a:rPr>
              <a:t>HL Maths</a:t>
            </a:r>
            <a:endParaRPr b="0" lang="en-US" sz="19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242852"/>
                </a:solidFill>
                <a:latin typeface="Century Gothic"/>
              </a:rPr>
              <a:t>Several level 8 degree programmes require a minimum grade in higher level maths. </a:t>
            </a:r>
            <a:endParaRPr b="0" lang="en-US" sz="19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242852"/>
                </a:solidFill>
                <a:latin typeface="Century Gothic"/>
              </a:rPr>
              <a:t>Engineering, computer science, science, information and computer technology courses and most degrees that include maths as a core subject.</a:t>
            </a:r>
            <a:endParaRPr b="0" lang="en-US" sz="19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Subject Options – 3</a:t>
            </a:r>
            <a:r>
              <a:rPr b="0" lang="en-IE" sz="4000" spc="-1" strike="noStrike" baseline="30000">
                <a:solidFill>
                  <a:srgbClr val="629dd1"/>
                </a:solidFill>
                <a:latin typeface="Century Gothic"/>
              </a:rPr>
              <a:t>rd</a:t>
            </a: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 Level Requirement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73080" y="2560680"/>
            <a:ext cx="354024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Third Language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NUI colleges (UCD, NUI Maynooth, UCC and NUI Galway and their associated colleges) require a pass in a third language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242852"/>
                </a:solidFill>
                <a:latin typeface="Century Gothic"/>
              </a:rPr>
              <a:t>Exceptions</a:t>
            </a:r>
            <a:endParaRPr b="0" lang="en-US" sz="15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Not for engineering, science and agricultural courses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NCAD (if not doing art)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35360" y="2560680"/>
            <a:ext cx="3538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Laboratory Science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Science courses require at least one lab science, e.g. science, physiotherapy, etc.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242852"/>
                </a:solidFill>
                <a:latin typeface="Century Gothic"/>
              </a:rPr>
              <a:t>RCSI medicine – chemistry plus biology/chemistry</a:t>
            </a:r>
            <a:endParaRPr b="0" lang="en-US" sz="15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242852"/>
                </a:solidFill>
                <a:latin typeface="Century Gothic"/>
              </a:rPr>
              <a:t>TCD medicine – 2 sciences</a:t>
            </a:r>
            <a:endParaRPr b="0" lang="en-US" sz="15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Chemistry is required for veterinary studies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242852"/>
                </a:solidFill>
                <a:latin typeface="Century Gothic"/>
              </a:rPr>
              <a:t>Geography – science for general entry science in UCD and TCD, but not DCU</a:t>
            </a:r>
            <a:endParaRPr b="0" lang="en-US" sz="17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71640" y="655560"/>
          <a:ext cx="7200720" cy="4148280"/>
        </p:xfrm>
        <a:graphic>
          <a:graphicData uri="http://schemas.openxmlformats.org/drawingml/2006/table">
            <a:tbl>
              <a:tblPr/>
              <a:tblGrid>
                <a:gridCol w="877680"/>
                <a:gridCol w="1046160"/>
                <a:gridCol w="1505160"/>
                <a:gridCol w="1133280"/>
                <a:gridCol w="1133640"/>
                <a:gridCol w="1504800"/>
              </a:tblGrid>
              <a:tr h="414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L Gr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O Points (H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L Gr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AO Points (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4161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0 – 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 – 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4140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0 – 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 – 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14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0 – 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 – 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4161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 – 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 – 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14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 – 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 – 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414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0 –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 –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14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0 – 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– 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415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 –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–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14360">
                <a:tc gridSpan="6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 bonus points awarded for grade H6 or better in HL m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971640" y="4906800"/>
          <a:ext cx="7200720" cy="1365480"/>
        </p:xfrm>
        <a:graphic>
          <a:graphicData uri="http://schemas.openxmlformats.org/drawingml/2006/table">
            <a:tbl>
              <a:tblPr/>
              <a:tblGrid>
                <a:gridCol w="2378160"/>
                <a:gridCol w="2257200"/>
                <a:gridCol w="2565360"/>
              </a:tblGrid>
              <a:tr h="273240">
                <a:tc gridSpan="3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7 (New) LCVP Grades and CAO Poi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Sc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wa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O Poi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732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0 – 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tin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27288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– 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r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732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 –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Important Date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242852"/>
                </a:solidFill>
                <a:uFillTx/>
                <a:latin typeface="Century Gothic"/>
              </a:rPr>
              <a:t>March 2017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IE" sz="2400" spc="-1" strike="noStrike" baseline="30000">
                <a:solidFill>
                  <a:srgbClr val="242852"/>
                </a:solidFill>
                <a:latin typeface="Century Gothic"/>
              </a:rPr>
              <a:t>nd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 March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DATS tests with third year student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13</a:t>
            </a:r>
            <a:r>
              <a:rPr b="0" lang="en-IE" sz="2400" spc="-1" strike="noStrike" baseline="30000">
                <a:solidFill>
                  <a:srgbClr val="242852"/>
                </a:solidFill>
                <a:latin typeface="Century Gothic"/>
              </a:rPr>
              <a:t>th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 March           LC subject choice forms to be handed ou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Subject discussions with student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24</a:t>
            </a:r>
            <a:r>
              <a:rPr b="0" lang="en-IE" sz="2400" spc="-1" strike="noStrike" baseline="30000">
                <a:solidFill>
                  <a:srgbClr val="242852"/>
                </a:solidFill>
                <a:latin typeface="Century Gothic"/>
              </a:rPr>
              <a:t>th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 March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LC subject choice forms to be returned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http://dig.do/screenshot-hires/201306/examinations.ie-examination-accreditation-leaving-certificate.jpg"/>
          <p:cNvPicPr/>
          <p:nvPr/>
        </p:nvPicPr>
        <p:blipFill>
          <a:blip r:embed="rId1"/>
          <a:stretch/>
        </p:blipFill>
        <p:spPr>
          <a:xfrm>
            <a:off x="3168720" y="2743200"/>
            <a:ext cx="2944800" cy="29462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Useful Site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qualifax.i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careersportal.i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examinations.i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studyclix.i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88" name="Picture 2" descr="http://img.sur.ly/thumbnails/620x343/q/qualifax.ie.png"/>
          <p:cNvPicPr/>
          <p:nvPr/>
        </p:nvPicPr>
        <p:blipFill>
          <a:blip r:embed="rId2"/>
          <a:stretch/>
        </p:blipFill>
        <p:spPr>
          <a:xfrm>
            <a:off x="6235560" y="3208320"/>
            <a:ext cx="1814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84200" y="1521000"/>
            <a:ext cx="797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Choose subjects the student: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6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Like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6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Has achieved well in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6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Needs for their future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6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Is prepared to work at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629dd1"/>
              </a:buClr>
              <a:buSzPct val="76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Link talents to subject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629dd1"/>
              </a:buClr>
              <a:buSzPct val="76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Talk to teachers, siblings, cousin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629dd1"/>
              </a:buClr>
              <a:buSzPct val="76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Look at senior cycle text book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629dd1"/>
              </a:buClr>
              <a:buSzPct val="76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Choose a good mix of subjects to keep college and career options open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6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3240" indent="-2700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1187280" y="836640"/>
            <a:ext cx="6575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242852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OOSING  SUBJEC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242852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Not sure? Safe option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371600"/>
            <a:ext cx="4248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2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2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IE" sz="2500" spc="-1" strike="noStrike">
                <a:solidFill>
                  <a:srgbClr val="242852"/>
                </a:solidFill>
                <a:latin typeface="Century Gothic"/>
              </a:rPr>
              <a:t>English, Irish and Maths</a:t>
            </a: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2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242852"/>
                </a:solidFill>
                <a:latin typeface="Century Gothic"/>
              </a:rPr>
              <a:t>Take at least one science subject</a:t>
            </a: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2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242852"/>
                </a:solidFill>
                <a:latin typeface="Century Gothic"/>
              </a:rPr>
              <a:t>Keep your modern language</a:t>
            </a: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24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242852"/>
                </a:solidFill>
                <a:latin typeface="Century Gothic"/>
              </a:rPr>
              <a:t>Take 2 other subjects that you are good at, or that you enjoy and will do well at. </a:t>
            </a: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242852"/>
                </a:solidFill>
                <a:latin typeface="Century Gothic"/>
              </a:rPr>
              <a:t>   </a:t>
            </a:r>
            <a:r>
              <a:rPr b="1" lang="en-IE" sz="2500" spc="-1" strike="noStrike">
                <a:solidFill>
                  <a:srgbClr val="242852"/>
                </a:solidFill>
                <a:latin typeface="Century Gothic"/>
              </a:rPr>
              <a:t>N.B. - Points restrict entry to many courses more than subjects do.</a:t>
            </a:r>
            <a:endParaRPr b="0" lang="en-US" sz="25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93" name="Picture 4" descr="C:\Users\fdaly\AppData\Local\Microsoft\Windows\Temporary Internet Files\Content.IE5\IYE0TBHD\MP900422802[1].jpg"/>
          <p:cNvPicPr/>
          <p:nvPr/>
        </p:nvPicPr>
        <p:blipFill>
          <a:blip r:embed="rId1"/>
          <a:stretch/>
        </p:blipFill>
        <p:spPr>
          <a:xfrm>
            <a:off x="4788000" y="155736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Agenda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48" name="Content Placeholder 8" descr=""/>
          <p:cNvPicPr/>
          <p:nvPr/>
        </p:nvPicPr>
        <p:blipFill>
          <a:blip r:embed="rId1"/>
          <a:stretch/>
        </p:blipFill>
        <p:spPr>
          <a:xfrm>
            <a:off x="1036800" y="1341360"/>
            <a:ext cx="67960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Next Step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95" name="Content Placeholder 5" descr=""/>
          <p:cNvPicPr/>
          <p:nvPr/>
        </p:nvPicPr>
        <p:blipFill>
          <a:blip r:embed="rId1"/>
          <a:stretch/>
        </p:blipFill>
        <p:spPr>
          <a:xfrm>
            <a:off x="542880" y="1554120"/>
            <a:ext cx="8150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ontent Placeholder 5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505560" cy="47307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he Form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Summary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00" name="Content Placeholder 6" descr=""/>
          <p:cNvPicPr/>
          <p:nvPr/>
        </p:nvPicPr>
        <p:blipFill>
          <a:blip r:embed="rId1"/>
          <a:stretch/>
        </p:blipFill>
        <p:spPr>
          <a:xfrm>
            <a:off x="-1189080" y="1122480"/>
            <a:ext cx="1152216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734000" y="2708280"/>
            <a:ext cx="329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6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734000" y="2707920"/>
            <a:ext cx="330984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800" spc="-1" strike="noStrike">
              <a:solidFill>
                <a:srgbClr val="424242"/>
              </a:solidFill>
              <a:latin typeface="Century Gothic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539640" y="907920"/>
            <a:ext cx="3168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entury Gothic"/>
              </a:rPr>
              <a:t>Ardscoil Rís Senior Options Information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entury Gothic"/>
              </a:rPr>
              <a:t>Transition Year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895560" cy="44085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5148360" y="62064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Century Gothic"/>
              </a:rPr>
              <a:t> February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ransition Year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10756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51960" y="1635120"/>
            <a:ext cx="7805880" cy="48182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685800" y="95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GB" sz="4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GB" sz="4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GB" sz="4400" spc="-1" strike="noStrike">
                <a:solidFill>
                  <a:srgbClr val="242852"/>
                </a:solidFill>
                <a:latin typeface="Century Gothic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3124080" y="1635120"/>
            <a:ext cx="243864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1600200" y="3387600"/>
            <a:ext cx="26668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4267080" y="3387600"/>
            <a:ext cx="2743200" cy="243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585600" y="2016000"/>
            <a:ext cx="175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ducation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th emphasi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ocial 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&amp; increased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905120" y="3844800"/>
            <a:ext cx="218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ducation 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xperience of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AD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&amp; WORKING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s a basis for 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velopment &amp; 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653000" y="369252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romotion of gener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and acade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with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hasi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disciplinary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lf-directed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he Programme in Ard Scoil Ri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18" name="Content Placeholder 3" descr=""/>
          <p:cNvPicPr/>
          <p:nvPr/>
        </p:nvPicPr>
        <p:blipFill>
          <a:blip r:embed="rId1"/>
          <a:stretch/>
        </p:blipFill>
        <p:spPr>
          <a:xfrm>
            <a:off x="-1262160" y="1847880"/>
            <a:ext cx="115952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he Calendar Layer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20" name="Content Placeholder 3" descr=""/>
          <p:cNvPicPr/>
          <p:nvPr/>
        </p:nvPicPr>
        <p:blipFill>
          <a:blip r:embed="rId1"/>
          <a:stretch/>
        </p:blipFill>
        <p:spPr>
          <a:xfrm>
            <a:off x="407880" y="1487520"/>
            <a:ext cx="8437680" cy="5108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0246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ransition Specific Layer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22" name="Content Placeholder 3" descr=""/>
          <p:cNvPicPr/>
          <p:nvPr/>
        </p:nvPicPr>
        <p:blipFill>
          <a:blip r:embed="rId1"/>
          <a:stretch/>
        </p:blipFill>
        <p:spPr>
          <a:xfrm>
            <a:off x="291960" y="1341360"/>
            <a:ext cx="8669520" cy="532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Subject Sampling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0920" y="2324160"/>
            <a:ext cx="77770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Modern Language (Russian, German, Japanese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Drama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Music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Scienc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Home Econom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Technical Graph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Psycholog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Criminolog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Music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0643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29dd1"/>
                </a:solidFill>
                <a:latin typeface="Century Gothic"/>
              </a:rPr>
              <a:t>Who and What Do I Want to Be?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50" name="Content Placeholder 3" descr="Decisions.jpg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3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Core Subject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26" name="Content Placeholder 3" descr=""/>
          <p:cNvPicPr/>
          <p:nvPr/>
        </p:nvPicPr>
        <p:blipFill>
          <a:blip r:embed="rId1"/>
          <a:stretch/>
        </p:blipFill>
        <p:spPr>
          <a:xfrm>
            <a:off x="512640" y="1414440"/>
            <a:ext cx="819324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Content Placeholder 3" descr=""/>
          <p:cNvPicPr/>
          <p:nvPr/>
        </p:nvPicPr>
        <p:blipFill>
          <a:blip r:embed="rId1"/>
          <a:stretch/>
        </p:blipFill>
        <p:spPr>
          <a:xfrm>
            <a:off x="225360" y="189000"/>
            <a:ext cx="8474040" cy="719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TY as a Different Way of Learning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429" name="Content Placeholder 10" descr=""/>
          <p:cNvPicPr/>
          <p:nvPr/>
        </p:nvPicPr>
        <p:blipFill>
          <a:blip r:embed="rId1"/>
          <a:stretch/>
        </p:blipFill>
        <p:spPr>
          <a:xfrm>
            <a:off x="298440" y="2273400"/>
            <a:ext cx="852156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0246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2017-2018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39640" y="177336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Aim to provide 3 classes of 24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Forms distributed tomorrow afternoon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Lottery as normal – students notified by post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1-52 will gain automatic entry- they will not choose subject options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53-72 will form the next class if a third class is feasible – they will choose subject options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73+ on a waiting list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Feasibility of a third class will not be known until May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Dependent on additional teaching resources being allocated from Department of Educ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14256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Finally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1280" y="1071360"/>
            <a:ext cx="8075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42852"/>
                </a:solidFill>
                <a:latin typeface="Century Gothic"/>
              </a:rPr>
              <a:t>Most Employers want a good graduate, but not of a particular type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42852"/>
                </a:solidFill>
                <a:latin typeface="Century Gothic"/>
              </a:rPr>
              <a:t>Keep your options open as long as possible – keep your science and language if possible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42852"/>
                </a:solidFill>
                <a:latin typeface="Century Gothic"/>
              </a:rPr>
              <a:t>Students should work as hard as they can now to get the best grades in their Junior Cert as this can often affect at what level they take a subject for the Leaving Cert.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42852"/>
                </a:solidFill>
                <a:latin typeface="Century Gothic"/>
              </a:rPr>
              <a:t>If they are unsure, ask a teacher or the Guidance Counsellor for help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242852"/>
                </a:solidFill>
                <a:latin typeface="Century Gothic"/>
              </a:rPr>
              <a:t>Good luck with your decisions!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3336-3452-4E83-A605-36B4DBFFF46A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Which One Do We Know??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52" name="Content Placeholder 3" descr="Decision Making.jpg"/>
          <p:cNvPicPr/>
          <p:nvPr/>
        </p:nvPicPr>
        <p:blipFill>
          <a:blip r:embed="rId1"/>
          <a:stretch/>
        </p:blipFill>
        <p:spPr>
          <a:xfrm>
            <a:off x="1968480" y="2324160"/>
            <a:ext cx="492588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What We Are Doing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54" name="Content Placeholder 6" descr=""/>
          <p:cNvPicPr/>
          <p:nvPr/>
        </p:nvPicPr>
        <p:blipFill>
          <a:blip r:embed="rId1"/>
          <a:stretch/>
        </p:blipFill>
        <p:spPr>
          <a:xfrm>
            <a:off x="542880" y="1371600"/>
            <a:ext cx="8058240" cy="531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Senior Options 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1036800" y="2298600"/>
            <a:ext cx="680220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629dd1"/>
                </a:solidFill>
                <a:latin typeface="Century Gothic"/>
              </a:rPr>
              <a:t>Leaving Cert Established 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55640" y="184464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242852"/>
                </a:solidFill>
                <a:uFillTx/>
                <a:latin typeface="Century Gothic"/>
              </a:rPr>
              <a:t>Core Subject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Examined 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(3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Irish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English 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Mathematic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Non Exam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RE including RSE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Careers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492360" y="1844640"/>
            <a:ext cx="48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1" lang="en-IE" sz="2400" spc="-1" strike="noStrike" u="sng">
                <a:solidFill>
                  <a:srgbClr val="242852"/>
                </a:solidFill>
                <a:uFillTx/>
                <a:latin typeface="Century Gothic"/>
              </a:rPr>
              <a:t>Option Subjects 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(4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Choose from 14 Subjects 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Option form.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550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242852"/>
                </a:solidFill>
                <a:latin typeface="Century Gothic"/>
              </a:rPr>
              <a:t>Total of 7 subjects examined at Leaving Certificate plus LCVP if eligible. </a:t>
            </a:r>
            <a:endParaRPr b="0" lang="en-US" sz="22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Optional Subject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628280"/>
            <a:ext cx="377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Fourteen choic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Choose </a:t>
            </a: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six, 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do </a:t>
            </a: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four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 from: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Spanish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Geograph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Busines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Accounting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Econom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Music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66920" y="1557000"/>
            <a:ext cx="3816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Construction Studie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Design and Communications Graphics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Biolog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Physic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242852"/>
                </a:solidFill>
                <a:latin typeface="Century Gothic"/>
              </a:rPr>
              <a:t>Chemistry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dd1"/>
                </a:solidFill>
                <a:latin typeface="Century Gothic"/>
              </a:rPr>
              <a:t>Choosing Options</a:t>
            </a:r>
            <a:endParaRPr b="0" lang="en-US" sz="4000" spc="-1" strike="noStrike">
              <a:solidFill>
                <a:srgbClr val="629dd1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4360" y="184464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Think ahead to the next step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Keep options open for 3</a:t>
            </a:r>
            <a:r>
              <a:rPr b="1" lang="en-IE" sz="2400" spc="-1" strike="noStrike" baseline="30000">
                <a:solidFill>
                  <a:srgbClr val="242852"/>
                </a:solidFill>
                <a:latin typeface="Century Gothic"/>
              </a:rPr>
              <a:t>rd</a:t>
            </a: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1" lang="en-IE" sz="2400" spc="-1" strike="noStrike">
                <a:solidFill>
                  <a:srgbClr val="242852"/>
                </a:solidFill>
                <a:latin typeface="Century Gothic"/>
              </a:rPr>
              <a:t>College entry :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IE" sz="2400" spc="-1" strike="noStrike">
                <a:solidFill>
                  <a:srgbClr val="242852"/>
                </a:solidFill>
                <a:latin typeface="Century Gothic"/>
              </a:rPr>
              <a:t>Points + Entry Requirement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629dd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20:47:49Z</dcterms:created>
  <dc:creator>barrysa</dc:creator>
  <dc:description/>
  <dc:language>en-US</dc:language>
  <cp:lastModifiedBy>Sarah Barry</cp:lastModifiedBy>
  <cp:lastPrinted>2017-02-27T16:12:22Z</cp:lastPrinted>
  <dcterms:modified xsi:type="dcterms:W3CDTF">2017-02-27T17:45:48Z</dcterms:modified>
  <cp:revision>57</cp:revision>
  <dc:subject/>
  <dc:title>PowerPoint Presentation</dc:title>
</cp:coreProperties>
</file>